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1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2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3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4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5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lvl="6" marL="301680" indent="-301680" algn="ctr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27080" y="6165360"/>
            <a:ext cx="4048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b2b2"/>
                </a:solidFill>
                <a:latin typeface="Arial"/>
              </a:rPr>
              <a:t>CONSÓRCIO ESTREITO ENERGIA - CE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F2E7-9CA5-40D7-98FE-D9CEDE746D5F}" type="slidenum">
              <a:rPr b="0" lang="en-US" sz="14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95280" y="6172200"/>
            <a:ext cx="8424720" cy="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9640" y="2133720"/>
            <a:ext cx="7993080" cy="25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HE Estrei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68280"/>
            <a:ext cx="7993080" cy="54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cessidade dos Empreen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o paí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nefícios da implantação do AHE Estreito para as com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scimento do 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ÇÕES TÉCN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557360"/>
            <a:ext cx="7993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acidade instalada: 1.087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ergia Assegurada: 584,9 MW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lização: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nicípios: Estreito (MA) e Aguiarnópolis (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do Reservatório: 555 k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sem descontar o leito do 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ílias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Urbana: 26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rea Rural: 9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héus: 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643280" y="1989000"/>
            <a:ext cx="403884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unidade 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332000" y="1052640"/>
          <a:ext cx="6624720" cy="1655640"/>
        </p:xfrm>
        <a:graphic>
          <a:graphicData uri="http://schemas.openxmlformats.org/drawingml/2006/table">
            <a:tbl>
              <a:tblPr/>
              <a:tblGrid>
                <a:gridCol w="2016000"/>
                <a:gridCol w="934920"/>
                <a:gridCol w="936720"/>
                <a:gridCol w="936720"/>
                <a:gridCol w="863640"/>
                <a:gridCol w="936720"/>
              </a:tblGrid>
              <a:tr h="28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rc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ga Própria (MWme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.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.8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8.5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ésci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.9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380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63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+ 2.633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835280" y="2708280"/>
          <a:ext cx="568944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708280"/>
                    <a:ext cx="568944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scimento do Merc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24000" y="1125360"/>
          <a:ext cx="856908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25360"/>
                    <a:ext cx="856908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92000" y="1844280"/>
            <a:ext cx="6264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ól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omassa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Gás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érmica a Carvão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ar- (Fotovoltaica)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drelétrica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nergia Eólic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 Gerador com capacidade instalada = 1,5 MW (por unidade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os para implantação em regiões planas e onde a confiabilidade dos ventos predominantes assegurem uma velocidade mínima compatível com o equipament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97360"/>
            <a:ext cx="37432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ustível renová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uição somente visual e sono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a da energia diretamente aos consumidores livres (maior ou igual a 500 k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contaminante: Licenças Ambientais facilit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ção próxima ao Centro de Car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997360"/>
            <a:ext cx="39607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possui 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totalmente 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os sobre a avifa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área em que estão instalados os geradores eólicos ocorre a restrição de uso para diversos f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ção área / capacidade instalada é ru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20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072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iomassa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adores com pequena capacidade instalada (média = 50 MW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cessitam de biomassa no seu processo produtivo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do a viabilidade de projetos de co-geração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286080"/>
            <a:ext cx="3743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z a poluição quando utiliza resíduos sólidos industriais e/ou domésticos (lixo, madeira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4920" y="3284640"/>
            <a:ext cx="3960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nologia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vado custo de implantação (R$ 160,00 / MWh - V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antação limitada a existência de res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érmica a Carv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1989000"/>
            <a:ext cx="8136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ilidade de grande geração, para atendimento da energia de po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nde flexibilidade 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rteza na existência de combustível para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3284640"/>
            <a:ext cx="813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luidora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arvão nacional com grande teor de cinza (&gt; 5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cnologia básica nacional, e de ponta import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Resíduos líquidos e sólidos no processo produ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stalados nos centros de carga próximos às cidades, causando resistência da população em aceitar a unidade de geraçã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lto nível de ruí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ransporte intensivo de combustíveis (carvão) e resíduos (cinz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usto de implantação aproximado de R$ 130,00 / MWh – V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érmica a Gá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ores Geradores com capacidade entre 300 e 1000 MW, existindo a possibilidade de grandes complexos (com vários geradores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263700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ia Assegu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dade de concentrar grandes unidades de ger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bustível importado vendido em U$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nceito de pagamento contínuo mesmo quando não operando (“take-or-pay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ecnologia totalmente impor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lexibilidade operacional limitada em função da não existência da venda de gás flexí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usto de implantação aproximado de R$ 130,00 / M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issão de CO</a:t>
            </a:r>
            <a:r>
              <a:rPr b="0" lang="pt-BR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ES QUEST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1125360"/>
            <a:ext cx="835344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É realmente necessário aumentar a oferta de energ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alternativa de geração hidrelétrica é a melhor solu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be ao empreendedor substituir a ausência do Esta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ingi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 o critério para definirmos quem é diretamente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dastro dos atingidos, critérios para inclus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o tratar a população menos favoreci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Opção única por reassentamento rural coletiv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Varias opções a critério de cada atingi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atividade dos atingidos, critérios e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S DE GERAÇÃO DE ENE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09720"/>
            <a:ext cx="8207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to Voltaica - Solar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dade de geração de 100 a 300 W (por painel de geração)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2276640"/>
            <a:ext cx="813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ergia li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o produtivo de baixo impacto amb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3716280"/>
            <a:ext cx="8136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 aproximado d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$ 470,00 / MW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cessidade de baterias e/ou energia alternativa (no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IDADES DOS EMPREEND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565360"/>
            <a:ext cx="835344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e critérios dos seus encar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álogo permanente entre o Ministério Público e 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ção dos limites de atuação e encargos do Empreend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reendedor visto como Estado no atendimento das demandas soci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 O 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916280"/>
            <a:ext cx="835344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87 MW de capacidade instal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0 km de vias navegáveis no Rio Tocant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diretos: mais de 5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pregos indiretos: mais de 16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mento de R$ 2.200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ilidade para a agricultura irrigá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a de mais de 98% do valor da obra no Bras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EFÍCIOS DA IMPLANTAÇÃO DA UHE ESTREITO PARA AS COM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916280"/>
            <a:ext cx="835344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nsação financeira pela utilização de recursos hídricos:                        R$ 13.636.919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as estruturas de lazer (pra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lhorias na infra-estrutura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arques Nacionais: R$ 11.000.000,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ursos para pesquisas básicas e aplicadas (EIA / RIMA, PB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squisas na área de arqueolo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8560" y="1268280"/>
            <a:ext cx="87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ito de atendimento ao universo dos atingidos: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rietários – Indenizaçã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ão proprietários – Somente benefícios e compensaçõ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diretos para os diretamente atingidos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ícios indiretos para os indiretamente antigi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endimento direto ao universo dos atingidos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lhoria da infra-estrutura pública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tamente atingidos: moradores na área inundada e devidamente cadastrado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tamente atingidos: moradores lindeiros e eventuais usuários da área inundada e beneficiários das melhorias de infra-estrutura realizadas pelo CEST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imentos de levantamento e avaliação da terra nua e benfeitorias mediante metodologia cientificamente validada e apresentada ao público atingido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ção quando requerida pelo atingido do acompanhamento do MP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ÍTICA DE RESPONSABILIDADE SOCIAL DO CE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268280"/>
            <a:ext cx="835344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eiros de boa fé terão mesmo tratamento de propriet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ções para famílias diretamente atingid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rural coletivo para fins pecu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ta de crédito para auto reassentam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assentamento urbano cole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ote urbano com infra estru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ferencialmente contratar pessoas da regi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STE mantém canal aberto de comunicação com a população envolvida e as autoridades locais, através de Centro de Comunicação Social, funcionando em Carolina/MA desde 02/04/03, objetivando esclarecer ao público-alvo da região de interesse, questões relativas à implantação do empreendimento</a:t>
            </a: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onograma de Implant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6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cesso de Licenciamento Ambienta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marL="76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dido de licença de estu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11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ão do Termo de Referênc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1/04/200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o EIA/RIMA ao IBAM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IA/RIMA disponível para consult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8/03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udiências públicas realiz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5/07/2002 à 19/07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inici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9/01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união técnica do process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5/02/2003 à 27/0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va visita técnica de camp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06/04/2003 à 11/04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issão de parec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9/08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√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trega da complementa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0/12/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Prévia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btenção da Licença de Instalação          dezembro/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ício das obra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rço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Geração da unidade #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aio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39640" y="981000"/>
          <a:ext cx="5056200" cy="511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81000"/>
                    <a:ext cx="5056200" cy="511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H="1">
            <a:off x="4660560" y="1289160"/>
            <a:ext cx="6094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59520" y="1052640"/>
            <a:ext cx="193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entury Gothic"/>
              </a:rPr>
              <a:t>Estreito 1.087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28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TO AHE ESTR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9:04:09Z</dcterms:created>
  <dc:creator>Tractebel Brasil</dc:creator>
  <dc:description/>
  <dc:language>en-US</dc:language>
  <cp:lastModifiedBy>Édio da Luz</cp:lastModifiedBy>
  <dcterms:modified xsi:type="dcterms:W3CDTF">2004-04-13T17:22:57Z</dcterms:modified>
  <cp:revision>196</cp:revision>
  <dc:subject/>
  <dc:title>Slide 1</dc:title>
</cp:coreProperties>
</file>